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AEF1-CF40-4A32-9629-70D66E89F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5E8F-2916-48A3-9A61-B7E9296E3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0867-CE2A-4E79-AF24-57AFACB10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6620-DDAA-4A00-A05E-20BF0ADB2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04B802-A4DD-4CC5-8A00-DE9405FA9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46054D-8A67-471A-BC90-B480E18F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705293-B60B-4ECC-9AD3-131886E1A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E1736B-F50A-4217-83A7-7C8B46435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BF097C-FE41-4DB1-B48B-B5D6B4198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B23F56-4898-452F-AD6C-446A04919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6756EF-67E9-45FD-8B2D-19E5659D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A1CF-DAC3-470A-A475-A32C4F58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D74E1A-0F15-4DF8-9F45-72E03F82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E9D4F1-5DEE-4D8D-93B7-BF1A9E61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392E61-92AD-4DF6-B5F0-CADA4FCAB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EE3E22-0F0C-4A14-9781-1D49CCE8C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59772C-B795-4807-AA56-1E9CC9C72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0BA72-27F4-4A42-97B0-4D6FD083D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A0CF3-9290-471F-B01F-D0CD995E7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30952-CE88-45E7-BD36-5E202F4BF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A9BB5-97FF-476F-A49F-309F02F45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6AD41-A997-4263-91BF-80005C52B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D669-DE74-4670-81AC-D29CAAD1E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EACE3-F78C-46C6-9C29-1CE097837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33B82-C381-4638-BF9E-7AC522FD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22329-37A6-4CE7-B24F-2F8DD6D1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2F9F5-C2EB-4582-91B7-B4CA581A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B5709-3669-4C77-97A3-17E8B4F76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03172-1B9B-4878-9014-5D287671C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768A3-C0F7-46D1-B1CF-792635755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4210FF-D28D-41CD-8BF5-3F67F98BC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8A5E28-9964-449D-8C7E-97DE45052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889223-D9F8-4D3B-8168-67FC988B5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3F21-4E89-4D36-A41F-B5EDD38C7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8AF976-32B8-45AC-9931-48E76405E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A84A66-C260-4DCA-99DA-8AE389F5A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DDD182-7A07-40CE-B100-FCF1FF675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2014EB-15D3-453A-B3C3-8D231B60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E6F7B3-A8E9-4A26-A9E1-61839427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F993FC-498E-4696-8750-022051E4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84C90A-47F6-4A3B-AC68-5ED9D8F3E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1C37C6-F6D1-4818-8F7E-6C14BDAE7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B0941C-EB98-4339-9562-B5C468FE7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4B9B-C4AF-47A6-8A23-C5F9965B4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57CB-5025-4A2C-8F6C-55F03E3A1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13DD-3378-4365-91DC-12B8C7C4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0622-495A-47FD-8A63-3AC552AE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245A-57C8-4B42-863A-9729FAC7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822DE-9E5B-45C0-8E05-DAA12F9A7AF4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932A6-DBF6-44EA-953E-C1248FA5E9BF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CC6E1-013A-4341-B112-6103403EECEF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B3EA7-60F5-4C8B-BB32-8F1E35BDEE98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Rectangle 2" descr=""/>
          <p:cNvPicPr/>
          <p:nvPr/>
        </p:nvPicPr>
        <p:blipFill>
          <a:blip r:embed="rId1"/>
          <a:stretch/>
        </p:blipFill>
        <p:spPr>
          <a:xfrm>
            <a:off x="457200" y="1432080"/>
            <a:ext cx="830880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еудовлетворенность условиями деятельност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арушение служебной этик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арушение трудового законодательств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граниченность рессурсов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азличия в целях, ценностях, воспитани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заимозависимость задач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7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Согласительная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актика нападения (четкая аргументация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актика разубеждения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актика отсрочки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актика подробного анализа (если сторона готовы к сотрудничеству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Активного соучастия (если факт соучастия важнее чем результат)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Персонализации (с наиболее конфликтными личностями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9" name="Rectangle 2" descr=""/>
          <p:cNvPicPr/>
          <p:nvPr/>
        </p:nvPicPr>
        <p:blipFill>
          <a:blip r:embed="rId1"/>
          <a:stretch/>
        </p:blipFill>
        <p:spPr>
          <a:xfrm>
            <a:off x="274680" y="92160"/>
            <a:ext cx="84121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рименение конфликтогенов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рямое негативное отношени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нисходительное отношени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Хвастовство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Менторское отношени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Нечестность, неискренность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Нарушения этических и этикетных норм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Регрессивное поведение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1" name="Rectangle 2" descr=""/>
          <p:cNvPicPr/>
          <p:nvPr/>
        </p:nvPicPr>
        <p:blipFill>
          <a:blip r:embed="rId1"/>
          <a:stretch/>
        </p:blipFill>
        <p:spPr>
          <a:xfrm>
            <a:off x="274680" y="92160"/>
            <a:ext cx="84121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2. Конфликтная ситуация + инциден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С – объекты и субъекты конфликта + разногласия в позициях, целях, интересов и т.д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238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рансакция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– единица взаимодействия партнеров по общению, сопровождающаяся заданием их позиции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Основные позиции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Родитель – требует, оценивает, осуждает, одобряет, руководит, учит…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зрослый – работает с информацией, анализирует, рассуждает, аргументирует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Ребенок (Дитя) – проявляет чувства (обиды, вины..), шалит, своенравен, извиняется в ответ на замечания, задает вопросы : «почему я?», «За что меня наказали?»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274680" y="92160"/>
            <a:ext cx="84121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Алгоритм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4648320" y="1600200"/>
          <a:ext cx="4038480" cy="190008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4648320" y="4076640"/>
          <a:ext cx="4038480" cy="2049480"/>
        </p:xfrm>
        <a:graphic>
          <a:graphicData uri="http://schemas.openxmlformats.org/drawingml/2006/table">
            <a:tbl>
              <a:tblPr/>
              <a:tblGrid>
                <a:gridCol w="2020680"/>
                <a:gridCol w="2017800"/>
              </a:tblGrid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Line 57"/>
          <p:cNvSpPr/>
          <p:nvPr/>
        </p:nvSpPr>
        <p:spPr>
          <a:xfrm flipV="1">
            <a:off x="5003640" y="2349360"/>
            <a:ext cx="316872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58"/>
          <p:cNvSpPr/>
          <p:nvPr/>
        </p:nvSpPr>
        <p:spPr>
          <a:xfrm flipH="1">
            <a:off x="5076720" y="2492280"/>
            <a:ext cx="316728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59"/>
          <p:cNvSpPr/>
          <p:nvPr/>
        </p:nvSpPr>
        <p:spPr>
          <a:xfrm>
            <a:off x="5003640" y="5734080"/>
            <a:ext cx="324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60"/>
          <p:cNvSpPr/>
          <p:nvPr/>
        </p:nvSpPr>
        <p:spPr>
          <a:xfrm flipH="1">
            <a:off x="5076360" y="4292640"/>
            <a:ext cx="324036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900000" y="2998800"/>
          <a:ext cx="2303640" cy="3165480"/>
        </p:xfrm>
        <a:graphic>
          <a:graphicData uri="http://schemas.openxmlformats.org/drawingml/2006/table">
            <a:tbl>
              <a:tblPr/>
              <a:tblGrid>
                <a:gridCol w="1152720"/>
                <a:gridCol w="11509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иц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ишен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Line 93"/>
          <p:cNvSpPr/>
          <p:nvPr/>
        </p:nvSpPr>
        <p:spPr>
          <a:xfrm>
            <a:off x="1258920" y="3933720"/>
            <a:ext cx="151272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94"/>
          <p:cNvSpPr/>
          <p:nvPr/>
        </p:nvSpPr>
        <p:spPr>
          <a:xfrm flipH="1">
            <a:off x="1403280" y="3860640"/>
            <a:ext cx="1440000" cy="187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Целенаправленное, обусловленное объективными законами воздействие на динамику в интересах развития или разрушения той социальной системы, к которой имеет отношение данный конфлик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правление конфликтами включает следующие виды деятельности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8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Rectangle 2" descr=""/>
          <p:cNvPicPr/>
          <p:nvPr/>
        </p:nvPicPr>
        <p:blipFill>
          <a:blip r:embed="rId1"/>
          <a:stretch/>
        </p:blipFill>
        <p:spPr>
          <a:xfrm>
            <a:off x="244440" y="171360"/>
            <a:ext cx="8442360" cy="1071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0" name=""/>
          <p:cNvGraphicFramePr/>
          <p:nvPr/>
        </p:nvGraphicFramePr>
        <p:xfrm>
          <a:off x="457200" y="1197000"/>
          <a:ext cx="8229600" cy="5661000"/>
        </p:xfrm>
        <a:graphic>
          <a:graphicData uri="http://schemas.openxmlformats.org/drawingml/2006/table">
            <a:tbl>
              <a:tblPr/>
              <a:tblGrid>
                <a:gridCol w="442800"/>
                <a:gridCol w="2880000"/>
                <a:gridCol w="3097080"/>
                <a:gridCol w="1809720"/>
              </a:tblGrid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тап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держание управления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аз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зникновение и разв. КС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гнозирование, предупрежде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чальная – 92%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знание КС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упрежде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ъема- 46%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чало открытого К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гулирова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ъем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витие открытого К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гулирова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ик- 5%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верше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реше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пада -20%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азрешение – совместная деятельность  участников, направленная на прекращение противодействия и решение проблемы, приведшей к столкновению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регулирование – принимает участие третья сторон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Затухание  - истощение ресурсов, потеря мотива, переориентация мотиваци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2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странение – ликвидация основных структурных элементов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ерерастание в другой конфлик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936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Rectangle 4" descr=""/>
          <p:cNvPicPr/>
          <p:nvPr/>
        </p:nvPicPr>
        <p:blipFill>
          <a:blip r:embed="rId1"/>
          <a:stretch/>
        </p:blipFill>
        <p:spPr>
          <a:xfrm>
            <a:off x="457200" y="1432080"/>
            <a:ext cx="830880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етка Томаса-Килменна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6" name="Rectangle 2" descr=""/>
          <p:cNvPicPr/>
          <p:nvPr/>
        </p:nvPicPr>
        <p:blipFill>
          <a:blip r:embed="rId1"/>
          <a:stretch/>
        </p:blipFill>
        <p:spPr>
          <a:xfrm>
            <a:off x="274680" y="176040"/>
            <a:ext cx="8412120" cy="963720"/>
          </a:xfrm>
          <a:prstGeom prst="rect">
            <a:avLst/>
          </a:prstGeom>
          <a:ln w="0">
            <a:noFill/>
          </a:ln>
        </p:spPr>
      </p:pic>
      <p:sp>
        <p:nvSpPr>
          <p:cNvPr id="217" name="AutoShape 4"/>
          <p:cNvSpPr/>
          <p:nvPr/>
        </p:nvSpPr>
        <p:spPr>
          <a:xfrm>
            <a:off x="250920" y="3860640"/>
            <a:ext cx="216036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клон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5"/>
          <p:cNvSpPr/>
          <p:nvPr/>
        </p:nvSpPr>
        <p:spPr>
          <a:xfrm>
            <a:off x="250920" y="1989000"/>
            <a:ext cx="216036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нкурен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6"/>
          <p:cNvSpPr/>
          <p:nvPr/>
        </p:nvSpPr>
        <p:spPr>
          <a:xfrm>
            <a:off x="2700360" y="2852640"/>
            <a:ext cx="208764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проми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5219640" y="3860640"/>
            <a:ext cx="244800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способ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8"/>
          <p:cNvSpPr/>
          <p:nvPr/>
        </p:nvSpPr>
        <p:spPr>
          <a:xfrm>
            <a:off x="5219640" y="1989000"/>
            <a:ext cx="230508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трудниче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10"/>
          <p:cNvSpPr/>
          <p:nvPr/>
        </p:nvSpPr>
        <p:spPr>
          <a:xfrm>
            <a:off x="611280" y="5373720"/>
            <a:ext cx="73454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AutoShape 11"/>
          <p:cNvSpPr/>
          <p:nvPr/>
        </p:nvSpPr>
        <p:spPr>
          <a:xfrm>
            <a:off x="611280" y="5445000"/>
            <a:ext cx="2448000" cy="9144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дивидуаль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12"/>
          <p:cNvSpPr/>
          <p:nvPr/>
        </p:nvSpPr>
        <p:spPr>
          <a:xfrm>
            <a:off x="6012000" y="5445000"/>
            <a:ext cx="2305080" cy="9144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вмест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Line 13"/>
          <p:cNvSpPr/>
          <p:nvPr/>
        </p:nvSpPr>
        <p:spPr>
          <a:xfrm flipV="1">
            <a:off x="7956720" y="1916280"/>
            <a:ext cx="0" cy="3241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utoShape 14"/>
          <p:cNvSpPr/>
          <p:nvPr/>
        </p:nvSpPr>
        <p:spPr>
          <a:xfrm>
            <a:off x="8028000" y="1557360"/>
            <a:ext cx="720720" cy="136692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366920"/>
              <a:gd name="textAreaBottom" fmla="*/ 1332000 h 1366920"/>
            </a:gdLst>
            <a:ahLst/>
            <a:rect l="textAreaLeft" t="textAreaTop" r="textAreaRight" b="textAreaBottom"/>
            <a:pathLst>
              <a:path w="21600" h="40957">
                <a:moveTo>
                  <a:pt x="3600" y="0"/>
                </a:moveTo>
                <a:arcTo wR="3600" hR="3600" stAng="16200000" swAng="-5400000"/>
                <a:lnTo>
                  <a:pt x="0" y="37357"/>
                </a:lnTo>
                <a:arcTo wR="3600" hR="3600" stAng="10800000" swAng="-5400000"/>
                <a:lnTo>
                  <a:pt x="18000" y="409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ктив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AutoShape 15"/>
          <p:cNvSpPr/>
          <p:nvPr/>
        </p:nvSpPr>
        <p:spPr>
          <a:xfrm>
            <a:off x="8028000" y="3860640"/>
            <a:ext cx="720720" cy="134640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346400"/>
              <a:gd name="textAreaBottom" fmla="*/ 1311480 h 1346400"/>
            </a:gdLst>
            <a:ahLst/>
            <a:rect l="textAreaLeft" t="textAreaTop" r="textAreaRight" b="textAreaBottom"/>
            <a:pathLst>
              <a:path w="21600" h="40342">
                <a:moveTo>
                  <a:pt x="3600" y="0"/>
                </a:moveTo>
                <a:arcTo wR="3600" hR="3600" stAng="16200000" swAng="-5400000"/>
                <a:lnTo>
                  <a:pt x="0" y="36742"/>
                </a:lnTo>
                <a:arcTo wR="3600" hR="3600" stAng="10800000" swAng="-5400000"/>
                <a:lnTo>
                  <a:pt x="18000" y="403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ссив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 ее помощью можно наметить стратегию, этапы и способы разрешения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роблема конфликта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Истинная причина конфликт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Действительные участники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одлинные потребности и опасения сторон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Межличностные отношения участников до конфликт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Отношение к конфликту лиц, не участвующих, но заинтересованных в положительном его разрешении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9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грессист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жалобщик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"разгневанный ребенок"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аксималист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олчун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"тайный мститель"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"ложный альтруист"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"хронический обвинитель"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1" name="Rectangle 2" descr=""/>
          <p:cNvPicPr/>
          <p:nvPr/>
        </p:nvPicPr>
        <p:blipFill>
          <a:blip r:embed="rId1"/>
          <a:stretch/>
        </p:blipFill>
        <p:spPr>
          <a:xfrm>
            <a:off x="244440" y="152280"/>
            <a:ext cx="8551800" cy="14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0" y="1197000"/>
          <a:ext cx="9123480" cy="5661000"/>
        </p:xfrm>
        <a:graphic>
          <a:graphicData uri="http://schemas.openxmlformats.org/drawingml/2006/table">
            <a:tbl>
              <a:tblPr/>
              <a:tblGrid>
                <a:gridCol w="3111480"/>
                <a:gridCol w="6012000"/>
              </a:tblGrid>
              <a:tr h="4348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новное содерж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64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формацион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квидация дефицита информации в конфликте; исключение из информационного поля ложной, искаженной информации; устранение слухов и т.п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680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муникатив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ганизация общения между субъектами конфликтного взаимодействия и их сторонниками; обеспечение эффективного общ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64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циально-психологическ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бота с неформальными лидерами и микрогруппами, снижение социальной напряженности и укрепления социально-психологического климата в коллектив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64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ганизацион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шение кадровых вопросов; использование методов поощрения и наказания; изменение условий взаимодействия сотрудников и т. п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3" name="Заголовок 2" descr=""/>
          <p:cNvPicPr/>
          <p:nvPr/>
        </p:nvPicPr>
        <p:blipFill>
          <a:blip r:embed="rId1"/>
          <a:stretch/>
        </p:blipFill>
        <p:spPr>
          <a:xfrm>
            <a:off x="249120" y="-189000"/>
            <a:ext cx="8450280" cy="13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В реальной практике по управлению конфликтами важно учитывать предпосылки, формы и способы их разрешения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достаточная зрелость конфликта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потребность субъектов конфликта в его разрешении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наличие необходимых средств и ресурсов для разрешения конфликта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6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60076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ничтожение или полное подчинение одной из сторон (уступка)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гласование интересов и позиций конфликтующих сторон на новой основе (компромисс, консенсус)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заимное примирение конфликтующих сторон (уход)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еревод борьбы в русло сотрудничества по совместному преодолению противоречий (сотрудничество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8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административный (увольнение, перевод на другую работу, решение суда и т. п.)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педагогический (беседа, убеждение, просьба, разъяснение и т. п.)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0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лгоритм деятельности руководителя в процессе управления конфликтами зависит от многих факторов — содержания самого конфликта, условий его возникновения и развития и многих других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2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"/>
          <p:cNvGraphicFramePr/>
          <p:nvPr/>
        </p:nvGraphicFramePr>
        <p:xfrm>
          <a:off x="0" y="1974960"/>
          <a:ext cx="9144000" cy="4884480"/>
        </p:xfrm>
        <a:graphic>
          <a:graphicData uri="http://schemas.openxmlformats.org/drawingml/2006/table">
            <a:tbl>
              <a:tblPr/>
              <a:tblGrid>
                <a:gridCol w="858960"/>
                <a:gridCol w="3305160"/>
                <a:gridCol w="4979880"/>
              </a:tblGrid>
              <a:tr h="5032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а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 деятель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особы (методы) реализа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05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учение причин возникновения конфлик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блюдение, анализ результатов деятельности; беседа; изучение документов; биографический метод, то есть изучение биографических данных участников конфликта и др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1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граничение числа участник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бота с лидерами в микрогруппах; перераспределение функциональных обязанностей; поощрение или наказание и т. п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4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полнительный анализ конфликта с помощью эксперт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прос экспертов; привлечение медиатора, психолога, переговорный процесс (медиация) и др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нятие реш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дминистративные методы; педагогические метод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4" name="Заголовок 2" descr=""/>
          <p:cNvPicPr/>
          <p:nvPr/>
        </p:nvPicPr>
        <p:blipFill>
          <a:blip r:embed="rId1"/>
          <a:stretch/>
        </p:blipFill>
        <p:spPr>
          <a:xfrm>
            <a:off x="262080" y="152280"/>
            <a:ext cx="842472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ъек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убъект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убъективные мотив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зиции сторон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чи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вод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3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 процессе управленческой деятельности по разрешению конфликтов и в выборе алгоритма такой деятельности 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для руководителя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ажно учитывать следующие принципы управления конфликтами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ъективности и адекватности оценки конфликта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онкретно-ситуационного подхода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гласности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емократического воздействия, опоры на общественное мнение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омплексного использования способов и приемов воздействи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"/>
          <p:cNvGraphicFramePr/>
          <p:nvPr/>
        </p:nvGraphicFramePr>
        <p:xfrm>
          <a:off x="0" y="1844640"/>
          <a:ext cx="9144000" cy="4822920"/>
        </p:xfrm>
        <a:graphic>
          <a:graphicData uri="http://schemas.openxmlformats.org/drawingml/2006/table">
            <a:tbl>
              <a:tblPr/>
              <a:tblGrid>
                <a:gridCol w="4908600"/>
                <a:gridCol w="4235400"/>
              </a:tblGrid>
              <a:tr h="3952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 факто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следств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ностороннее суждение руководителя о подчиненных (как правило, только с точки зрения того, как они выполняют его указания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шает понять мотивы конфликтующих и оценить динамику конфли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тересы руководителя в конфликте как члена коллектива и как лич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шибочные решения, связанные с субъективной оценкой предмета конфли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ремление как можно быстрее погасить конфлик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шибочные решения, часто приводящие к наказанию «правых» и «виноватых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жличностные отношения с конфликтующими (симпатии, антипатии дружба и т. п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шибочные решения, проявляющиеся в предвзятом отношении к одному из участников конфли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7" name="Заголовок 2" descr=""/>
          <p:cNvPicPr/>
          <p:nvPr/>
        </p:nvPicPr>
        <p:blipFill>
          <a:blip r:embed="rId1"/>
          <a:stretch/>
        </p:blipFill>
        <p:spPr>
          <a:xfrm>
            <a:off x="274680" y="85680"/>
            <a:ext cx="84121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Заголовок 1" descr=""/>
          <p:cNvPicPr/>
          <p:nvPr/>
        </p:nvPicPr>
        <p:blipFill>
          <a:blip r:embed="rId1"/>
          <a:stretch/>
        </p:blipFill>
        <p:spPr>
          <a:xfrm>
            <a:off x="444600" y="3352680"/>
            <a:ext cx="8169120" cy="180972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685440" y="4959360"/>
            <a:ext cx="7924680" cy="98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efac9"/>
                </a:solidFill>
                <a:latin typeface="Constantia"/>
              </a:rPr>
              <a:t>Формулы конфликта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457200" y="1523520"/>
            <a:ext cx="85075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тражает зависимость конфликта (КФ) от конфликтогенов (КФГ)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Конфликтогены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— это слова, действия (или отсутствие действий), которые могут привести к конфликту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 этом КФГ2 &gt; КФГ1(, КФГ3&gt; КФГ2 и т. д. (Закон эскалации конфликтогенов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1" name="Заголовок 2" descr=""/>
          <p:cNvPicPr/>
          <p:nvPr/>
        </p:nvPicPr>
        <p:blipFill>
          <a:blip r:embed="rId1"/>
          <a:stretch/>
        </p:blipFill>
        <p:spPr>
          <a:xfrm>
            <a:off x="262080" y="152280"/>
            <a:ext cx="8491320" cy="1219320"/>
          </a:xfrm>
          <a:prstGeom prst="rect">
            <a:avLst/>
          </a:prstGeom>
          <a:ln w="0">
            <a:noFill/>
          </a:ln>
        </p:spPr>
      </p:pic>
      <p:sp>
        <p:nvSpPr>
          <p:cNvPr id="252" name="Скругленный прямоугольник 4"/>
          <p:cNvSpPr/>
          <p:nvPr/>
        </p:nvSpPr>
        <p:spPr>
          <a:xfrm>
            <a:off x="826920" y="2781360"/>
            <a:ext cx="7345440" cy="9349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КФГ1      КФГ2      КФГ3     …      К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3" name="Прямая со стрелкой 6"/>
          <p:cNvCxnSpPr/>
          <p:nvPr/>
        </p:nvCxnSpPr>
        <p:spPr>
          <a:xfrm>
            <a:off x="2195280" y="3249360"/>
            <a:ext cx="432360" cy="1080"/>
          </a:xfrm>
          <a:prstGeom prst="straightConnector1">
            <a:avLst/>
          </a:prstGeom>
          <a:ln w="12600">
            <a:solidFill>
              <a:srgbClr val="a5b592"/>
            </a:solidFill>
            <a:miter/>
            <a:tailEnd len="med" type="arrow" w="med"/>
          </a:ln>
        </p:spPr>
      </p:cxnSp>
      <p:sp>
        <p:nvSpPr>
          <p:cNvPr id="254" name="Стрелка вправо 7"/>
          <p:cNvSpPr/>
          <p:nvPr/>
        </p:nvSpPr>
        <p:spPr>
          <a:xfrm>
            <a:off x="2268360" y="3176640"/>
            <a:ext cx="432000" cy="108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3" descr=""/>
          <p:cNvPicPr/>
          <p:nvPr/>
        </p:nvPicPr>
        <p:blipFill>
          <a:blip r:embed="rId2"/>
          <a:stretch/>
        </p:blipFill>
        <p:spPr>
          <a:xfrm>
            <a:off x="3995640" y="3141720"/>
            <a:ext cx="480960" cy="2080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"/>
          <p:cNvPicPr/>
          <p:nvPr/>
        </p:nvPicPr>
        <p:blipFill>
          <a:blip r:embed="rId3"/>
          <a:stretch/>
        </p:blipFill>
        <p:spPr>
          <a:xfrm>
            <a:off x="5746680" y="3141720"/>
            <a:ext cx="480960" cy="2080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"/>
          <p:cNvPicPr/>
          <p:nvPr/>
        </p:nvPicPr>
        <p:blipFill>
          <a:blip r:embed="rId4"/>
          <a:stretch/>
        </p:blipFill>
        <p:spPr>
          <a:xfrm>
            <a:off x="6754680" y="3141720"/>
            <a:ext cx="481320" cy="2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Правило 1.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Не употребляйте конфликтогены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Правило 2.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Не отвечайте конфликтогеном на конфликтоген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ажно отметить, что по наблюдениям специалистов, 80 % конфликтов возникает помимо желания их участников и по вышеприведенной формуле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9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57200" y="152388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отражает зависимость конфликта (КФ) от конфликтной ситуации (КС) и инцидента (И)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Конфликтная ситуация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— это накопившиеся противоречия, связанные с деятельностью субъектов социального взаимодействия и создающие почву для реального противоборства между ними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Инцидент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— это стечение обстоятельств, являющихся поводом для конфликта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1" name="Заголовок 2" descr=""/>
          <p:cNvPicPr/>
          <p:nvPr/>
        </p:nvPicPr>
        <p:blipFill>
          <a:blip r:embed="rId1"/>
          <a:stretch/>
        </p:blipFill>
        <p:spPr>
          <a:xfrm>
            <a:off x="262080" y="152280"/>
            <a:ext cx="8424720" cy="1463760"/>
          </a:xfrm>
          <a:prstGeom prst="rect">
            <a:avLst/>
          </a:prstGeom>
          <a:ln w="0">
            <a:noFill/>
          </a:ln>
        </p:spPr>
      </p:pic>
      <p:sp>
        <p:nvSpPr>
          <p:cNvPr id="262" name="Скругленный прямоугольник 3"/>
          <p:cNvSpPr/>
          <p:nvPr/>
        </p:nvSpPr>
        <p:spPr>
          <a:xfrm>
            <a:off x="2268360" y="2781360"/>
            <a:ext cx="4391280" cy="7189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КС + И = К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3" name=""/>
          <p:cNvGraphicFramePr/>
          <p:nvPr/>
        </p:nvGraphicFramePr>
        <p:xfrm>
          <a:off x="34920" y="692280"/>
          <a:ext cx="9109080" cy="6165720"/>
        </p:xfrm>
        <a:graphic>
          <a:graphicData uri="http://schemas.openxmlformats.org/drawingml/2006/table">
            <a:tbl>
              <a:tblPr/>
              <a:tblGrid>
                <a:gridCol w="4216320"/>
                <a:gridCol w="4892760"/>
              </a:tblGrid>
              <a:tr h="45396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арактер конфликтной ситуа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явл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добросовестное исполнение обязанност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рушение трудовой дисциплины Брак в работ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05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удовлетворительный стиль управл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шибки в подборе и расстановке кадров Ошибки в организации контроля Просчеты в планировании Нарушение этики общ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68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адекватное представление о конкретных ситуация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правильные оценки, суждения о действиях других субъектов социального взаимодействия Ошибки в выводах относительно конкретных ситуац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37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дивидуально-психологические особенности лич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рушение принятых в социальной группе правил взаимоотношений Нарушение этики общ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изкая профессиональная подготов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рак в работе Неспособность принять адекватное реш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4" name="Прямоугольник 7"/>
          <p:cNvSpPr/>
          <p:nvPr/>
        </p:nvSpPr>
        <p:spPr>
          <a:xfrm>
            <a:off x="2063880" y="87480"/>
            <a:ext cx="47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ипы конфликтных ситуаци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тражает зависимость конфликта (КФ) от нескольких конфликтных ситуаций (КС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 этом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&gt; 2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умма двух или более конфликтных ситуаций приводит к конфликту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6" name="Заголовок 4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347840"/>
          </a:xfrm>
          <a:prstGeom prst="rect">
            <a:avLst/>
          </a:prstGeom>
          <a:ln w="0">
            <a:noFill/>
          </a:ln>
        </p:spPr>
      </p:pic>
      <p:sp>
        <p:nvSpPr>
          <p:cNvPr id="267" name="Скругленный прямоугольник 6"/>
          <p:cNvSpPr/>
          <p:nvPr/>
        </p:nvSpPr>
        <p:spPr>
          <a:xfrm>
            <a:off x="1692360" y="2637000"/>
            <a:ext cx="5400720" cy="7207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КС1 + КС2 + ... + КС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 = К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Конфликт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— это такое отношение между субъектами социального взаимодействия, которое характеризуется их противоборством на основе противоположно направленных мотивов (потребностей, интересов, целей, идеалов, убеждений) или суждений (мнений, взглядов, оценок и т. п.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1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По составу участников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нутриличностны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ежличностны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ежду личностью и группо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ежгруппово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2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По длительности и напряженности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Бурные быстротекущие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стрые длительн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лабовыраженные вялотекущ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лабовыраженные быстротекущ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7" name="Rectangle 2" descr=""/>
          <p:cNvPicPr/>
          <p:nvPr/>
        </p:nvPicPr>
        <p:blipFill>
          <a:blip r:embed="rId1"/>
          <a:stretch/>
        </p:blipFill>
        <p:spPr>
          <a:xfrm>
            <a:off x="225360" y="208080"/>
            <a:ext cx="846144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3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В зависимости от сферы проявления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Эконом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деолог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циально-бытов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емейно-бытов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4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От социальных последствий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онструктивн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еструктивн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936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От предмета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еалистичные (предметные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ереалистичные (беспредметные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6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От причин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щие причи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Частные причи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Причины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– явления, события, факты, ситуации, которые предшествуют конфликту и, при определенных условиях деятельности субъектов социального взаимодействия, вызывают конфлик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238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циально-экономические и полит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циально-демограф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циально-психолог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ндивидуально-психолог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5" name="Rectangle 2" descr=""/>
          <p:cNvPicPr/>
          <p:nvPr/>
        </p:nvPicPr>
        <p:blipFill>
          <a:blip r:embed="rId1"/>
          <a:stretch/>
        </p:blipFill>
        <p:spPr>
          <a:xfrm>
            <a:off x="244440" y="171360"/>
            <a:ext cx="844236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7T07:37:26Z</dcterms:created>
  <dc:creator>User</dc:creator>
  <dc:description/>
  <dc:language>en-US</dc:language>
  <cp:lastModifiedBy>Iren</cp:lastModifiedBy>
  <dcterms:modified xsi:type="dcterms:W3CDTF">2020-04-09T10:58:29Z</dcterms:modified>
  <cp:revision>20</cp:revision>
  <dc:subject/>
  <dc:title>Конфликты и пути их разрешения.</dc:title>
</cp:coreProperties>
</file>